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D14F-6740-4353-BB07-E7B9EF27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D58-E038-44F1-A19F-097772A7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937-C418-4698-A719-45CDE44D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9DDB-5E12-482A-B566-CDDC97B3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C4C-6BA6-4723-A571-CC456E48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596-2867-4064-8EBE-94A842B0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01A-F7A3-4052-B5C8-87785F6E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D71-21DC-45D8-A2FD-9C55F76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BED-7281-4A31-B969-485919B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DB5-B647-4AC8-8397-30902C87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DD0-DB73-4634-9B39-E175457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FE7-74EE-428D-A9BB-210CC16A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8AB8-7AFC-4FE7-A573-6FF881276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4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330920" y="1996920"/>
            <a:ext cx="66286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ЛИДНОСТ И ЗНАЧАЈНО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ЈАГНОСТИЧКОГ ТЕ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ова дијагност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било независ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епог упоређења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ЛАТНИМ СТАНДАРДОМ дијагноз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дијагностички тест испитан 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ичног оном у стварном живо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златни стандард употребљен независно од резултата дијагностичког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Резултати студије о дијагностичком тесту су корисни ако је дијагностички тест примењен на болесницима са благ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али и тешком болешћ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болесницима у раној и касној ф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нелеченим и леченим болесниц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о и на здравим особ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Тако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рисно је да тест буде примењен и на болесницима са болестима које су сличне оној која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дијагностичком тесту клинички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ијагностички тестови који стварају велику разлику између вероватноће пре и после теста су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699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5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љење (хипохромна а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тат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с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итин у серум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itivan (&l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1   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an (&g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    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3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нзитивност = а/(а+ц) = 731/809 =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фичност = д/(б+д) =1500/1770= 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позитиван исход теста= ОМ+=сенз/(1-спец)=90%/15%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негативан исход теста=ОМ-=(1-сенз)/спец=10%/85%=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итивна вредност предвиђања=а/(а+б)=731/1001=7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Негативна вредност предвиђ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500/1578=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валенца=(а+ц)/(а+б+ц+д)=809/2579=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р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тест одд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1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31%/69%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после теста (пост-тест оддс) =однос пре теста x однос могућ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Вероватноћа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дијагностички тест може да се примен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ест доступ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болесник може да га пл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ачан и прецизан у нашим услов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можете имати прихватљиву процену вероватноће пре теста за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ваше прак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чног иску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клиничке спекул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вероватноћа после теста утицати на лечење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утицати на одлуку о врсти третма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пацијент прихватити третмане који долазе у обзи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лико утиче однос могућно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4200" y="2637000"/>
            <a:ext cx="8715240" cy="2295360"/>
            <a:chOff x="214200" y="2637000"/>
            <a:chExt cx="8715240" cy="2295360"/>
          </a:xfrm>
        </p:grpSpPr>
        <p:grpSp>
          <p:nvGrpSpPr>
            <p:cNvPr id="57" name="Group 5"/>
            <p:cNvGrpSpPr/>
            <p:nvPr/>
          </p:nvGrpSpPr>
          <p:grpSpPr>
            <a:xfrm>
              <a:off x="219240" y="2641680"/>
              <a:ext cx="8704080" cy="2286000"/>
              <a:chOff x="219240" y="2641680"/>
              <a:chExt cx="8704080" cy="2286000"/>
            </a:xfrm>
          </p:grpSpPr>
          <p:grpSp>
            <p:nvGrpSpPr>
              <p:cNvPr id="58" name="Group 6"/>
              <p:cNvGrpSpPr/>
              <p:nvPr/>
            </p:nvGrpSpPr>
            <p:grpSpPr>
              <a:xfrm>
                <a:off x="219240" y="2641680"/>
                <a:ext cx="5142960" cy="457200"/>
                <a:chOff x="219240" y="2641680"/>
                <a:chExt cx="5142960" cy="457200"/>
              </a:xfrm>
            </p:grpSpPr>
            <p:sp>
              <p:nvSpPr>
                <p:cNvPr id="59" name="Rectangle 7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мањ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8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9"/>
              <p:cNvGrpSpPr/>
              <p:nvPr/>
            </p:nvGrpSpPr>
            <p:grpSpPr>
              <a:xfrm>
                <a:off x="5362560" y="2641680"/>
                <a:ext cx="3560760" cy="457200"/>
                <a:chOff x="5362560" y="2641680"/>
                <a:chExt cx="3560760" cy="457200"/>
              </a:xfrm>
            </p:grpSpPr>
            <p:sp>
              <p:nvSpPr>
                <p:cNvPr id="62" name="Rectangle 10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велик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1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2"/>
              <p:cNvGrpSpPr/>
              <p:nvPr/>
            </p:nvGrpSpPr>
            <p:grpSpPr>
              <a:xfrm>
                <a:off x="219240" y="3098880"/>
                <a:ext cx="5142960" cy="457200"/>
                <a:chOff x="219240" y="3098880"/>
                <a:chExt cx="5142960" cy="457200"/>
              </a:xfrm>
            </p:grpSpPr>
            <p:sp>
              <p:nvSpPr>
                <p:cNvPr id="65" name="Rectangle 13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5 - 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 - 0.2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4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15"/>
              <p:cNvGrpSpPr/>
              <p:nvPr/>
            </p:nvGrpSpPr>
            <p:grpSpPr>
              <a:xfrm>
                <a:off x="5362560" y="3098880"/>
                <a:ext cx="3560760" cy="457200"/>
                <a:chOff x="5362560" y="3098880"/>
                <a:chExt cx="3560760" cy="457200"/>
              </a:xfrm>
            </p:grpSpPr>
            <p:sp>
              <p:nvSpPr>
                <p:cNvPr id="68" name="Rectangle 16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умерен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7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18"/>
              <p:cNvGrpSpPr/>
              <p:nvPr/>
            </p:nvGrpSpPr>
            <p:grpSpPr>
              <a:xfrm>
                <a:off x="219240" y="3556080"/>
                <a:ext cx="5142960" cy="457200"/>
                <a:chOff x="219240" y="3556080"/>
                <a:chExt cx="5142960" cy="457200"/>
              </a:xfrm>
            </p:grpSpPr>
            <p:sp>
              <p:nvSpPr>
                <p:cNvPr id="71" name="Rectangle 19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2 - 5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2 - 0.5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20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Group 21"/>
              <p:cNvGrpSpPr/>
              <p:nvPr/>
            </p:nvGrpSpPr>
            <p:grpSpPr>
              <a:xfrm>
                <a:off x="5362560" y="3556080"/>
                <a:ext cx="3560760" cy="457200"/>
                <a:chOff x="5362560" y="3556080"/>
                <a:chExt cx="3560760" cy="457200"/>
              </a:xfrm>
            </p:grpSpPr>
            <p:sp>
              <p:nvSpPr>
                <p:cNvPr id="74" name="Rectangle 22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мал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23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24"/>
              <p:cNvGrpSpPr/>
              <p:nvPr/>
            </p:nvGrpSpPr>
            <p:grpSpPr>
              <a:xfrm>
                <a:off x="219240" y="4013280"/>
                <a:ext cx="5142960" cy="457200"/>
                <a:chOff x="219240" y="4013280"/>
                <a:chExt cx="5142960" cy="457200"/>
              </a:xfrm>
            </p:grpSpPr>
            <p:sp>
              <p:nvSpPr>
                <p:cNvPr id="77" name="Rectangle 25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ањи од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6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Group 27"/>
              <p:cNvGrpSpPr/>
              <p:nvPr/>
            </p:nvGrpSpPr>
            <p:grpSpPr>
              <a:xfrm>
                <a:off x="5362560" y="4013280"/>
                <a:ext cx="3560760" cy="457200"/>
                <a:chOff x="5362560" y="4013280"/>
                <a:chExt cx="3560760" cy="457200"/>
              </a:xfrm>
            </p:grpSpPr>
            <p:sp>
              <p:nvSpPr>
                <p:cNvPr id="80" name="Rectangle 28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незнатне пром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29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30"/>
              <p:cNvGrpSpPr/>
              <p:nvPr/>
            </p:nvGrpSpPr>
            <p:grpSpPr>
              <a:xfrm>
                <a:off x="219240" y="4470480"/>
                <a:ext cx="5142960" cy="457200"/>
                <a:chOff x="219240" y="4470480"/>
                <a:chExt cx="5142960" cy="457200"/>
              </a:xfrm>
            </p:grpSpPr>
            <p:sp>
              <p:nvSpPr>
                <p:cNvPr id="83" name="Rectangle 31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= 1.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32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33"/>
              <p:cNvGrpSpPr/>
              <p:nvPr/>
            </p:nvGrpSpPr>
            <p:grpSpPr>
              <a:xfrm>
                <a:off x="5362560" y="4470480"/>
                <a:ext cx="3560760" cy="457200"/>
                <a:chOff x="5362560" y="4470480"/>
                <a:chExt cx="3560760" cy="457200"/>
              </a:xfrm>
            </p:grpSpPr>
            <p:sp>
              <p:nvSpPr>
                <p:cNvPr id="86" name="Rectangle 34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Не изазива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35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Rectangle 36"/>
            <p:cNvSpPr/>
            <p:nvPr/>
          </p:nvSpPr>
          <p:spPr>
            <a:xfrm>
              <a:off x="214200" y="2637000"/>
              <a:ext cx="8715240" cy="2295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4:38Z</dcterms:modified>
  <cp:revision>57</cp:revision>
  <dc:subject/>
  <dc:title>Slide 1</dc:title>
</cp:coreProperties>
</file>